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7.wmf" ContentType="image/x-wmf"/>
  <Override PartName="/ppt/media/image26.jpeg" ContentType="image/jpeg"/>
  <Override PartName="/ppt/media/image24.wmf" ContentType="image/x-wmf"/>
  <Override PartName="/ppt/media/image21.png" ContentType="image/png"/>
  <Override PartName="/ppt/media/image23.png" ContentType="image/png"/>
  <Override PartName="/ppt/media/image6.wmf" ContentType="image/x-wmf"/>
  <Override PartName="/ppt/media/image19.jpeg" ContentType="image/jpeg"/>
  <Override PartName="/ppt/media/image29.wmf" ContentType="image/x-wmf"/>
  <Override PartName="/ppt/media/image11.wmf" ContentType="image/x-wmf"/>
  <Override PartName="/ppt/media/image18.png" ContentType="image/png"/>
  <Override PartName="/ppt/media/image31.wmf" ContentType="image/x-wmf"/>
  <Override PartName="/ppt/media/image7.jpeg" ContentType="image/jpeg"/>
  <Override PartName="/ppt/media/image25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2.wmf" ContentType="image/x-wmf"/>
  <Override PartName="/ppt/media/image30.wmf" ContentType="image/x-wmf"/>
  <Override PartName="/ppt/media/image33.png" ContentType="image/png"/>
  <Override PartName="/ppt/media/image34.png" ContentType="image/png"/>
  <Override PartName="/ppt/media/image15.png" ContentType="image/png"/>
  <Override PartName="/ppt/media/image36.jpeg" ContentType="image/jpeg"/>
  <Override PartName="/ppt/media/image2.jpeg" ContentType="image/jpeg"/>
  <Override PartName="/ppt/media/image35.png" ContentType="image/png"/>
  <Override PartName="/ppt/media/image5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3.png" ContentType="image/png"/>
  <Override PartName="/ppt/media/image20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96DB-EF16-439C-BE75-141E7C0AE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1387-C34C-43C1-8AA0-094E87D48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9015-22FD-4BAC-B9AB-3023EC3F6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2C05-7DEF-4092-8A9D-ED707E51B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FD1A-4FF4-41C3-B231-3A49AF841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8ACD-82C1-4E42-AF43-2300757CB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FD37-A262-484A-A7CB-1F2381063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BCD4-AA27-4BBF-ABC9-F468C8EED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218F-348A-48F5-A3AD-18830BDDE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2FD6-D230-4404-9CA1-42DA6140E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283E-583A-4851-97BC-C18E3B284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092D-36E8-4635-911A-A47CC4DB6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1DCC-C9E5-41CE-BD4D-5955CE4B2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F7D0-3646-48DA-A43D-645B36A9A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CD83-8513-4595-926A-4F61810E9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0B3D-CE50-4D14-ADCD-079BB9005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2566-A062-4736-9480-4E94ECD2A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DEDE-77A6-43BD-8D5D-EBD1267D5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36EF-5DEB-4990-8572-1F6DB1401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5787-8F1B-4FCA-A72A-A9C350C70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44D15-DB23-40F3-A48B-0D7900B309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225C0-C173-4106-B712-CAB1076D1B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4A62B-85BE-4FB9-932E-56DF65C00B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34302-F464-40DE-A048-08E233AA66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DBB3-1737-4764-90AB-53437E7AF5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C9E3-6FCB-444F-8453-4557E83564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49D4-A5AB-4A18-B76B-8ACDA4BFF8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70AE-2C63-4C6F-9622-6AB0ED3C79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098E-92D5-4EB5-A49F-72F17E33CA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D9CB-22ED-4A32-A865-631DCCA4F9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F0A1-ADA4-41BB-92C4-D58C558927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482C3-88D6-40A3-A443-697A339E24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6402-B043-419D-B1E8-42A5BB8B04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3C76-6201-44BD-A91D-7EDF449F3D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3C14-633B-45EC-BBB6-D6B9238382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24D8-826A-4E75-8713-12779179E8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B15E-EB33-46B0-B105-24E73B8AD8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C6843-5654-4EBA-86AF-1C08240544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6148B-7BB9-4DA5-B9A5-769CF2DD32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56B35-2AA2-4C83-B3E6-4154415DA2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299DB-4902-4A45-AF2D-F1BD5BA454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9CB7D-029F-45AF-BA32-A6B4396864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127EF-C77D-4EC1-B382-86E8640AD0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40596-E207-4E48-BF96-9F94F638EC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E7D1-88F4-40FE-A44F-4994EFE488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B41A-7D5A-43B8-A7F3-DF6007245F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24D9-F374-49CE-BECE-0FA7823ED8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362320" y="1600200"/>
            <a:ext cx="731520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Approvisionnement et gestion des stoc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5B6D-E659-4EA8-968A-AD0A91A6A6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 mettre en place un 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1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3124080" y="2895480"/>
            <a:ext cx="31244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4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5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6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7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8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ssigner responsa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6629400" y="2133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nalyse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des beso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les besoins minim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3429000" y="5257800"/>
            <a:ext cx="2514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évelopper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formulaires et regis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3"/>
          <p:cNvSpPr/>
          <p:nvPr/>
        </p:nvSpPr>
        <p:spPr>
          <a:xfrm>
            <a:off x="685800" y="449568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systèm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our recevoir et sto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685800" y="2057400"/>
            <a:ext cx="266688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Maintenir </a:t>
            </a:r>
            <a:br>
              <a:rPr sz="1400"/>
            </a:b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n système de gestion de stock dans toutes les zones de sto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5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6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7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8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9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0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57AE-4EC2-4276-A69F-27B79B305F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r les beso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re une analyse des besoins en consommables et réactifs 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stant toutes les analys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ant les consommables nécessaires pour chaque analy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ant l’information disponible pour estime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FDE5-6854-4541-98CD-9F1A42069E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nalyse des besoins : Information Requ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80880" y="1295280"/>
            <a:ext cx="8534520" cy="5045040"/>
            <a:chOff x="380880" y="1295280"/>
            <a:chExt cx="8534520" cy="5045040"/>
          </a:xfrm>
        </p:grpSpPr>
        <p:sp>
          <p:nvSpPr>
            <p:cNvPr id="222" name="AutoShape 4"/>
            <p:cNvSpPr/>
            <p:nvPr/>
          </p:nvSpPr>
          <p:spPr>
            <a:xfrm>
              <a:off x="380880" y="1295280"/>
              <a:ext cx="8534520" cy="504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98691"/>
            <p:cNvSpPr/>
            <p:nvPr/>
          </p:nvSpPr>
          <p:spPr>
            <a:xfrm flipH="1" flipV="1">
              <a:off x="2616120" y="3436560"/>
              <a:ext cx="1022400" cy="1904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98685"/>
            <p:cNvSpPr/>
            <p:nvPr/>
          </p:nvSpPr>
          <p:spPr>
            <a:xfrm>
              <a:off x="542880" y="2631960"/>
              <a:ext cx="213192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Espac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stockage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98690"/>
            <p:cNvSpPr/>
            <p:nvPr/>
          </p:nvSpPr>
          <p:spPr>
            <a:xfrm flipH="1">
              <a:off x="3393720" y="4313160"/>
              <a:ext cx="630360" cy="5050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98672"/>
            <p:cNvSpPr/>
            <p:nvPr/>
          </p:nvSpPr>
          <p:spPr>
            <a:xfrm>
              <a:off x="1704960" y="4699080"/>
              <a:ext cx="2131920" cy="1231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Temps pou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mman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98689"/>
            <p:cNvSpPr/>
            <p:nvPr/>
          </p:nvSpPr>
          <p:spPr>
            <a:xfrm>
              <a:off x="5272200" y="4313160"/>
              <a:ext cx="635040" cy="503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98670"/>
            <p:cNvSpPr/>
            <p:nvPr/>
          </p:nvSpPr>
          <p:spPr>
            <a:xfrm>
              <a:off x="5465880" y="4699080"/>
              <a:ext cx="2131920" cy="12319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Niveau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priorité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98688"/>
            <p:cNvSpPr/>
            <p:nvPr/>
          </p:nvSpPr>
          <p:spPr>
            <a:xfrm flipV="1">
              <a:off x="5657760" y="3435120"/>
              <a:ext cx="1022400" cy="191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98667"/>
            <p:cNvSpPr/>
            <p:nvPr/>
          </p:nvSpPr>
          <p:spPr>
            <a:xfrm>
              <a:off x="6248520" y="2631960"/>
              <a:ext cx="25128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Consommation/mois       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98687"/>
            <p:cNvSpPr/>
            <p:nvPr/>
          </p:nvSpPr>
          <p:spPr>
            <a:xfrm flipV="1">
              <a:off x="4648320" y="2583000"/>
              <a:ext cx="0" cy="620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98665"/>
            <p:cNvSpPr/>
            <p:nvPr/>
          </p:nvSpPr>
          <p:spPr>
            <a:xfrm>
              <a:off x="3276720" y="1352520"/>
              <a:ext cx="243972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Unité de 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conditionnement      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98662"/>
            <p:cNvSpPr/>
            <p:nvPr/>
          </p:nvSpPr>
          <p:spPr>
            <a:xfrm>
              <a:off x="3584520" y="3203640"/>
              <a:ext cx="228132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br>
                <a:rPr sz="3000"/>
              </a:b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'un article </a:t>
              </a:r>
              <a:br>
                <a:rPr sz="3000"/>
              </a:b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A90B-AD8B-44E6-9C23-842793E0FE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533520"/>
            <a:ext cx="80773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a quantification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09480" y="1905120"/>
            <a:ext cx="7848720" cy="25311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La quantification</a:t>
            </a:r>
            <a:r>
              <a:rPr b="0" lang="fr-FR" sz="3200" spc="-1" strike="noStrike">
                <a:solidFill>
                  <a:srgbClr val="ffcc00"/>
                </a:solidFill>
                <a:latin typeface="Verdana"/>
              </a:rPr>
              <a:t> est un processus pour calculer la quantité requise d’un article pour une période donné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DB5F-011D-4080-AD83-7EA831FFFF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fr-FR" sz="3600" spc="-1" strike="noStrike">
                <a:solidFill>
                  <a:srgbClr val="e40202"/>
                </a:solidFill>
                <a:latin typeface="Verdana"/>
              </a:rPr>
              <a:t>quand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t partie de la planification annu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ise en œuvre d’un nouveau programme de san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préparation à une épidémie potentielle ou identif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210C-135F-4EEB-9AC2-F71A3854EB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Commen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consomm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morbid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19B7-68D6-49A9-B85B-BD7AFEF7C8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antification: basée su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5943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asée sur la consommation ré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oit prendre en comp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réellement uti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gaspillés périmés ou abîm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en rupture de stock plus de 15 jours sur l’ann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Untitled-43"/>
          <p:cNvPicPr/>
          <p:nvPr/>
        </p:nvPicPr>
        <p:blipFill>
          <a:blip r:embed="rId1"/>
          <a:stretch/>
        </p:blipFill>
        <p:spPr>
          <a:xfrm>
            <a:off x="5638680" y="2695680"/>
            <a:ext cx="35053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7D0E-9C63-4103-ABA7-D3E83DD124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Untitled-42"/>
          <p:cNvPicPr/>
          <p:nvPr/>
        </p:nvPicPr>
        <p:blipFill>
          <a:blip r:embed="rId1"/>
          <a:stretch/>
        </p:blipFill>
        <p:spPr>
          <a:xfrm>
            <a:off x="5105520" y="2395440"/>
            <a:ext cx="4038480" cy="25574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: basée sur la morbid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asée sur le nombre réel d’é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prendre en compt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aill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idence mala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actitude donnée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morbid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gnes de conduit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andardisées de tra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83CF-AD56-44BD-B4EF-E0041FE388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es registr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uméro de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itères de refus ou d’acceptation des produ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’utilisation/sortis du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 peut être utile de garder les registres sur le lieu de stock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storage_shelves"/>
          <p:cNvPicPr/>
          <p:nvPr/>
        </p:nvPicPr>
        <p:blipFill>
          <a:blip r:embed="rId1"/>
          <a:stretch/>
        </p:blipFill>
        <p:spPr>
          <a:xfrm>
            <a:off x="6647040" y="533520"/>
            <a:ext cx="2116080" cy="21333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gestion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 stock 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j0234700"/>
          <p:cNvPicPr/>
          <p:nvPr/>
        </p:nvPicPr>
        <p:blipFill>
          <a:blip r:embed="rId2"/>
          <a:stretch/>
        </p:blipFill>
        <p:spPr>
          <a:xfrm rot="2522400">
            <a:off x="7559280" y="3511440"/>
            <a:ext cx="16002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1782-54A5-48AB-AEA1-F765ABAEA7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 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Quanti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ock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alance du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tre informatio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étag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sti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;og_book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6A1C-4D42-4FC5-A9C9-BD4F915371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es étapes nécessaires pour mettre en œuvre un programme de contrôle et d’inventaire des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mmer les facteurs à considérer avant d’acheter des consomm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velopper un plan de contrôle du système de gestion des stocks et des invent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iscuter l’importance de la documentation concernant l’approvisionnement et la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9854-9AB7-4697-8A7A-78F31E569C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Inspecter les commandes au moment de la livr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s cont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’intég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réceptio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our chaque prod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anger les nouveaux articles derrière ceux en st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réer ou mettre à jour des regis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FIL15003"/>
          <p:cNvPicPr/>
          <p:nvPr/>
        </p:nvPicPr>
        <p:blipFill>
          <a:blip r:embed="rId1"/>
          <a:stretch/>
        </p:blipFill>
        <p:spPr>
          <a:xfrm>
            <a:off x="6781680" y="4495680"/>
            <a:ext cx="2076480" cy="1860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pe01495_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9AE0-DBE7-4B30-A38D-F3E8646E62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p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rganisé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erm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ien ventil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s de soleil dir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gères soli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rticles à portée de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écautions de sécurité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8"/>
          <p:cNvSpPr/>
          <p:nvPr/>
        </p:nvSpPr>
        <p:spPr>
          <a:xfrm>
            <a:off x="6019920" y="3962520"/>
            <a:ext cx="213336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3" descr="j0434713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36D1-5973-4446-AA71-23FFD74AF4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Rayonn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7"/>
          <p:cNvSpPr/>
          <p:nvPr/>
        </p:nvSpPr>
        <p:spPr>
          <a:xfrm>
            <a:off x="685800" y="533412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uivre les précautions de sécur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1"/>
          <p:cNvSpPr/>
          <p:nvPr/>
        </p:nvSpPr>
        <p:spPr>
          <a:xfrm>
            <a:off x="4572000" y="4343400"/>
            <a:ext cx="213372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388E-E2F2-4361-A1AF-944EDF0479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ite la “perte” d’un produ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conomise du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ématise l’espac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sto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uméroter chambres froide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frigérateur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congélateur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étiqueter les ray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8" descr="refrigerator_storage_cdc"/>
          <p:cNvPicPr/>
          <p:nvPr/>
        </p:nvPicPr>
        <p:blipFill>
          <a:blip r:embed="rId1"/>
          <a:srcRect l="0" t="0" r="0" b="25408"/>
          <a:stretch/>
        </p:blipFill>
        <p:spPr>
          <a:xfrm>
            <a:off x="4495680" y="4800600"/>
            <a:ext cx="3246480" cy="1701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rganisation des rayonn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7" descr="stock_room"/>
          <p:cNvPicPr/>
          <p:nvPr/>
        </p:nvPicPr>
        <p:blipFill>
          <a:blip r:embed="rId2"/>
          <a:stretch/>
        </p:blipFill>
        <p:spPr>
          <a:xfrm>
            <a:off x="5791320" y="1716120"/>
            <a:ext cx="32004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5AEE-C486-462A-BFFC-A096D6E3CF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tiliser des étiquettes avec des dates clairement visibl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’ouver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e pére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6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8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0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CAB1-AC61-457E-AAA5-B966594E90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 continu de la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6" descr="Untitled-41"/>
          <p:cNvPicPr/>
          <p:nvPr/>
        </p:nvPicPr>
        <p:blipFill>
          <a:blip r:embed="rId1"/>
          <a:stretch/>
        </p:blipFill>
        <p:spPr>
          <a:xfrm>
            <a:off x="457200" y="1050840"/>
            <a:ext cx="82296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9455-746C-4EDB-8DC5-5264BA2C26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Gestion informatis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at exact du stock, classification des prod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dates de pére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tatistiques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planifier les ordres d’ac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a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âches de gestion de stock facili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convéni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rdinateur sur place nécess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quiert un personnel form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713040"/>
            <a:ext cx="26672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780B-7408-47A3-A99B-FE040CDDFA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laboratoire bien géré possèdera un système d’approvisionnement et de gestion de st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système requière de planifier et contrôler: analyser les besoins, développer des formulaires et procédures, maintenir un inventaire. Le laboratoire devra maintenir un système de gestion de stock pour tous les réactifs et consommables utilisés a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424A-5095-4DC4-A065-6873D71FDA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gestion de stock 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gmente l’efficience et l’efficacité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ondra aux besoins des patients et du personnel de s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 la disponibilité des produits quand nécess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8C07-9FD5-497C-A86E-6409E40644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58128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21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6094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F037-6CFE-41CD-942E-378538A564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n demande à votre laboratoire de se préparer en vue d’une épidémie de grippe potentie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sont les différents facteurs à étudier en planifiant ce processu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problèmes seriez vous susceptibles de rencontrer lors de la planification et de la mise en oeuv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7B98-03AA-481D-9C4E-7B072E8607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4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74DC-F49A-40D1-A62C-CFFCA4BC14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Bénéfices d’un programme</a:t>
            </a:r>
            <a:br>
              <a:rPr sz="3200"/>
            </a:b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609480" y="3352680"/>
            <a:ext cx="2438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ournitures et réactifs toujours dispon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5943600" y="3200400"/>
            <a:ext cx="28195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oins de gaspill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Budget respec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2" descr="j0424198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5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maint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7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153" name="Line 19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0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1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B531-5D74-4278-82B8-D2C4A723C3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quilibre entre disponibilité du stock et dates de péremption des produits.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urée de vie des réactif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var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actifs RIA : 3 à 8 sema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Kits API : 4 à 1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tisérums : 1 à 4 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isques antibiotiques : 2 à 3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prêt à l’emploi : 1 à 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déshydraté : 3 à 5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FIL738"/>
          <p:cNvPicPr/>
          <p:nvPr/>
        </p:nvPicPr>
        <p:blipFill>
          <a:blip r:embed="rId1"/>
          <a:stretch/>
        </p:blipFill>
        <p:spPr>
          <a:xfrm>
            <a:off x="5410080" y="2514600"/>
            <a:ext cx="3429000" cy="28875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éfis de la gestion de st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5791320" y="36576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En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7467480" y="3352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at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érem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90BB-62E2-43D4-A8BC-DFE8EA89A8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principau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6" descr="Untitled-46"/>
          <p:cNvPicPr/>
          <p:nvPr/>
        </p:nvPicPr>
        <p:blipFill>
          <a:blip r:embed="rId1"/>
          <a:stretch/>
        </p:blipFill>
        <p:spPr>
          <a:xfrm>
            <a:off x="228600" y="1438200"/>
            <a:ext cx="868680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ABBB-23A1-441D-933D-429CC559E8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pour qualifier et sélectionner des vend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critères de sélection pour les consommables ou réactifs à ache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des informations auprès d’autres laborato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aluer avant l’approvisionnement et après la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B3A8-CAEF-4543-8C96-4C1DB36628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sidé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éterminer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dalité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de paiemen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457200" y="1143000"/>
            <a:ext cx="5409720" cy="2971080"/>
            <a:chOff x="457200" y="1143000"/>
            <a:chExt cx="5409720" cy="2971080"/>
          </a:xfrm>
        </p:grpSpPr>
        <p:sp>
          <p:nvSpPr>
            <p:cNvPr id="177" name="AutoShape 9"/>
            <p:cNvSpPr/>
            <p:nvPr/>
          </p:nvSpPr>
          <p:spPr>
            <a:xfrm>
              <a:off x="457200" y="1143000"/>
              <a:ext cx="5409720" cy="29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0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Négocier les pri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R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contra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17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3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1"/>
          <p:cNvSpPr/>
          <p:nvPr/>
        </p:nvSpPr>
        <p:spPr>
          <a:xfrm>
            <a:off x="609480" y="1295280"/>
            <a:ext cx="5105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Comprendre les exigences du gouver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2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3" descr="j0412568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4" descr="j0311860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5" descr="j0185303"/>
          <p:cNvPicPr/>
          <p:nvPr/>
        </p:nvPicPr>
        <p:blipFill>
          <a:blip r:embed="rId3"/>
          <a:stretch/>
        </p:blipFill>
        <p:spPr>
          <a:xfrm>
            <a:off x="6705720" y="5029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6"/>
          <p:cNvSpPr/>
          <p:nvPr/>
        </p:nvSpPr>
        <p:spPr>
          <a:xfrm>
            <a:off x="5638680" y="37339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ssurer disponibilité et livra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2:07:52Z</dcterms:created>
  <dc:creator>sam5</dc:creator>
  <dc:description/>
  <dc:language>en-US</dc:language>
  <cp:lastModifiedBy>dolmazonv</cp:lastModifiedBy>
  <dcterms:modified xsi:type="dcterms:W3CDTF">2010-04-07T15:05:22Z</dcterms:modified>
  <cp:revision>130</cp:revision>
  <dc:subject/>
  <dc:title>Slide 1</dc:title>
</cp:coreProperties>
</file>